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5CA2-C400-4C24-BC28-099309D0B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94C6-5912-46C3-8ADE-82DF5844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D672-DAFC-4CAC-A437-94ADEBED0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7E72-A486-43F2-AB64-00A9DE4A9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C1A5-30BC-4BD5-A6FF-4A89911D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5223-0CE7-406F-93B8-712D3AA1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CD3C-E483-480B-B008-A1013A53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1772-6B89-46DF-B8BB-5B31D0AB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516F-979B-46C8-A49C-0366D33F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F2A0-41E4-4094-9033-38DDCCD5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90FA-DC46-4D9E-8A66-6DC210DA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3A97-9E80-4796-90BC-C6CDF1CB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941580-4C4C-488A-B4CE-45BD67E629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B64530-C13C-4519-95E8-E2ADF550AD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ve A has a shorter wavelength than Wave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ve A has a longer wavelength than Wave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ve C has a shorter wavelength than Wave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ve C has a longer wavelength than Wave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battery changes chemical energy into electricit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stove changes electricity into hea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mical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lectrical Ener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ical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rmal Energ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television changes electricity into ligh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battery powered fan changes chemical energy to electricity to move the fan blad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i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ical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Radiant Ener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mical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lectrical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echanical Ener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ical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rmal Ener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ant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lectrical Ener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mical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lectrical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Radia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chanical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lectrical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Radia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7315200" y="203040"/>
            <a:ext cx="1015920" cy="1401840"/>
          </a:xfrm>
          <a:prstGeom prst="rect">
            <a:avLst/>
          </a:prstGeom>
          <a:ln w="0">
            <a:noFill/>
          </a:ln>
        </p:spPr>
      </p:pic>
      <p:cxnSp>
        <p:nvCxnSpPr>
          <p:cNvPr id="44" name="Straight Arrow Connector 5"/>
          <p:cNvCxnSpPr/>
          <p:nvPr/>
        </p:nvCxnSpPr>
        <p:spPr>
          <a:xfrm>
            <a:off x="6337080" y="1426680"/>
            <a:ext cx="1168920" cy="25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1434960" y="3898800"/>
            <a:ext cx="1105200" cy="1104840"/>
          </a:xfrm>
          <a:prstGeom prst="rect">
            <a:avLst/>
          </a:prstGeom>
          <a:ln w="0">
            <a:noFill/>
          </a:ln>
        </p:spPr>
      </p:pic>
      <p:cxnSp>
        <p:nvCxnSpPr>
          <p:cNvPr id="46" name="Straight Arrow Connector 8"/>
          <p:cNvCxnSpPr/>
          <p:nvPr/>
        </p:nvCxnSpPr>
        <p:spPr>
          <a:xfrm>
            <a:off x="431640" y="3657240"/>
            <a:ext cx="1245600" cy="4834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47" name="Straight Arrow Connector 10"/>
          <p:cNvCxnSpPr/>
          <p:nvPr/>
        </p:nvCxnSpPr>
        <p:spPr>
          <a:xfrm flipH="1">
            <a:off x="1041120" y="4838760"/>
            <a:ext cx="838800" cy="1656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48" name="TextBox 11"/>
          <p:cNvSpPr/>
          <p:nvPr/>
        </p:nvSpPr>
        <p:spPr>
          <a:xfrm>
            <a:off x="609480" y="3429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n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2"/>
          <p:cNvSpPr/>
          <p:nvPr/>
        </p:nvSpPr>
        <p:spPr>
          <a:xfrm>
            <a:off x="431640" y="4533840"/>
            <a:ext cx="124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3" descr=""/>
          <p:cNvPicPr/>
          <p:nvPr/>
        </p:nvPicPr>
        <p:blipFill>
          <a:blip r:embed="rId3"/>
          <a:stretch/>
        </p:blipFill>
        <p:spPr>
          <a:xfrm>
            <a:off x="3670200" y="3844800"/>
            <a:ext cx="1803600" cy="1158840"/>
          </a:xfrm>
          <a:prstGeom prst="rect">
            <a:avLst/>
          </a:prstGeom>
          <a:ln w="0">
            <a:noFill/>
          </a:ln>
        </p:spPr>
      </p:pic>
      <p:sp>
        <p:nvSpPr>
          <p:cNvPr id="51" name="TextBox 14"/>
          <p:cNvSpPr/>
          <p:nvPr/>
        </p:nvSpPr>
        <p:spPr>
          <a:xfrm>
            <a:off x="3219480" y="384480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er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5"/>
          <p:cNvSpPr/>
          <p:nvPr/>
        </p:nvSpPr>
        <p:spPr>
          <a:xfrm>
            <a:off x="5079960" y="384480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6"/>
          <p:cNvSpPr/>
          <p:nvPr/>
        </p:nvSpPr>
        <p:spPr>
          <a:xfrm>
            <a:off x="4121280" y="3844800"/>
            <a:ext cx="95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7" descr=""/>
          <p:cNvPicPr/>
          <p:nvPr/>
        </p:nvPicPr>
        <p:blipFill>
          <a:blip r:embed="rId4"/>
          <a:stretch/>
        </p:blipFill>
        <p:spPr>
          <a:xfrm>
            <a:off x="6975360" y="3963960"/>
            <a:ext cx="1613160" cy="939960"/>
          </a:xfrm>
          <a:prstGeom prst="rect">
            <a:avLst/>
          </a:prstGeom>
          <a:ln w="0">
            <a:noFill/>
          </a:ln>
        </p:spPr>
      </p:pic>
      <p:sp>
        <p:nvSpPr>
          <p:cNvPr id="55" name="TextBox 18"/>
          <p:cNvSpPr/>
          <p:nvPr/>
        </p:nvSpPr>
        <p:spPr>
          <a:xfrm>
            <a:off x="6337440" y="389880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Straight Arrow Connector 20"/>
          <p:cNvCxnSpPr/>
          <p:nvPr/>
        </p:nvCxnSpPr>
        <p:spPr>
          <a:xfrm>
            <a:off x="6629040" y="4268880"/>
            <a:ext cx="346680" cy="1656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7" name="Straight Arrow Connector 24"/>
          <p:cNvCxnSpPr/>
          <p:nvPr/>
        </p:nvCxnSpPr>
        <p:spPr>
          <a:xfrm>
            <a:off x="7315200" y="4122720"/>
            <a:ext cx="67392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8" name="TextBox 25"/>
          <p:cNvSpPr/>
          <p:nvPr/>
        </p:nvSpPr>
        <p:spPr>
          <a:xfrm>
            <a:off x="7124760" y="379584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6"/>
          <p:cNvSpPr/>
          <p:nvPr/>
        </p:nvSpPr>
        <p:spPr>
          <a:xfrm>
            <a:off x="8394840" y="3747960"/>
            <a:ext cx="59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Straight Arrow Connector 28"/>
          <p:cNvCxnSpPr/>
          <p:nvPr/>
        </p:nvCxnSpPr>
        <p:spPr>
          <a:xfrm flipV="1">
            <a:off x="8588160" y="4059000"/>
            <a:ext cx="34020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9T01:08:15Z</dcterms:created>
  <dc:creator>Caroline Roth</dc:creator>
  <dc:description/>
  <dc:language>en-US</dc:language>
  <cp:lastModifiedBy>Caroline Roth</cp:lastModifiedBy>
  <cp:lastPrinted>2011-02-10T03:42:45Z</cp:lastPrinted>
  <dcterms:modified xsi:type="dcterms:W3CDTF">2011-04-29T01:37:30Z</dcterms:modified>
  <cp:revision>7</cp:revision>
  <dc:subject/>
  <dc:title>Slide 1</dc:title>
</cp:coreProperties>
</file>